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8F8-3269-4599-80A2-A773D071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76E-D379-4CF7-87DF-2634A1AC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138-33E3-46BD-A1A2-46043A0A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28C-ABA2-4DB5-91AA-DA1E0376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B29-767C-4CE2-9D69-16A0A103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A21-5715-4315-8159-2089B9AF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D09-7067-481E-B672-3954BCE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9F3-25B2-4F5E-9FC0-0BD460D6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E5A-FEE0-4E9B-AC46-76733F40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BD2-02A8-43D5-992A-4107A3CA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017-395B-4304-AEF1-6A67336C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8C2-54BB-48D5-A456-BAAF0A34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EFDD-A643-4CC8-9DE5-3BA2B15D0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685800"/>
            <a:ext cx="19051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1676520"/>
            <a:ext cx="4114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981080"/>
            <a:ext cx="411480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371600"/>
            <a:ext cx="4114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858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876920" y="1447560"/>
            <a:ext cx="15238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876920" y="1980720"/>
            <a:ext cx="15238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876920" y="2590560"/>
            <a:ext cx="15238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876920" y="320004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876920" y="38858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876920" y="449568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876920" y="510516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55627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743200"/>
            <a:ext cx="190476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4120" y="76212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400800" y="1295280"/>
            <a:ext cx="1752480" cy="4574160"/>
            <a:chOff x="6400800" y="1295280"/>
            <a:chExt cx="1752480" cy="4574160"/>
          </a:xfrm>
        </p:grpSpPr>
        <p:sp>
          <p:nvSpPr>
            <p:cNvPr id="57" name=""/>
            <p:cNvSpPr/>
            <p:nvPr/>
          </p:nvSpPr>
          <p:spPr>
            <a:xfrm>
              <a:off x="6400800" y="1295280"/>
              <a:ext cx="1752480" cy="45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2560" y="12952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77480" y="12952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39600" y="129528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00800" y="1599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77480" y="159984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9600" y="1599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00800" y="19047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480" y="190476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39600" y="190476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0800" y="22096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480" y="22096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39600" y="220968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142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480" y="251424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9600" y="25142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8191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77480" y="281916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9600" y="281916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31240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77480" y="31240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39600" y="312408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34286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480" y="342864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9600" y="34286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00800" y="37335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480" y="373356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9600" y="373356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40384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7120" y="40384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9240" y="403848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00800" y="43430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77120" y="43430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9240" y="43430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0800" y="46479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77120" y="464796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39240" y="464796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9528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77120" y="49528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9240" y="495288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800" y="5257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77120" y="52574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39240" y="5257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00800" y="5562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556236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9240" y="556236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5867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124080" y="3276720"/>
            <a:ext cx="1752840" cy="2440440"/>
            <a:chOff x="3124080" y="3276720"/>
            <a:chExt cx="1752840" cy="2440440"/>
          </a:xfrm>
        </p:grpSpPr>
        <p:sp>
          <p:nvSpPr>
            <p:cNvPr id="105" name=""/>
            <p:cNvSpPr/>
            <p:nvPr/>
          </p:nvSpPr>
          <p:spPr>
            <a:xfrm>
              <a:off x="3124080" y="3276720"/>
              <a:ext cx="1752840" cy="243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32767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4120" y="3276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15520" y="32767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24080" y="35812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4120" y="3581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5520" y="35812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38862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4120" y="3886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5520" y="388620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1911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54120" y="4191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5520" y="41911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4080" y="44956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4120" y="4495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5520" y="44956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8006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4120" y="480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15160" y="480060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51055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4120" y="5105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5160" y="510552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54100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4120" y="5410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15160" y="54100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124440" y="281952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: odd/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89480" y="5867280"/>
            <a:ext cx="2722680" cy="82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key-form ‘(lambda (k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(oddp (val v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t (log (val v) 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nil nil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2193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1219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920" y="1219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4600" y="12193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523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920" y="1523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4240" y="152388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828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92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4240" y="182880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920" y="762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: mod5 *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0840" y="2438280"/>
            <a:ext cx="2577960" cy="82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key-form ‘(lambda (k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(= 0 (mod (val v)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t (* 2 (val v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nil nil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24:50Z</dcterms:created>
  <dc:creator>Ian Eslick</dc:creator>
  <dc:description/>
  <dc:language>en-US</dc:language>
  <cp:lastModifiedBy>Ian Eslick</cp:lastModifiedBy>
  <dcterms:modified xsi:type="dcterms:W3CDTF">2007-04-25T14:06:52Z</dcterms:modified>
  <cp:revision>4</cp:revision>
  <dc:subject/>
  <dc:title>PowerPoint Presentation</dc:title>
</cp:coreProperties>
</file>