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01C-C278-4D5D-BC2C-0A0AFA37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952-5108-4182-AE7E-5959500E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677-F364-40E3-B92B-79D528DC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A42-E681-4DE7-8F58-EE48219B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40A-201E-42D9-A494-246CCBDA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0D4-BFDD-444E-BE2E-03CCDF7D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89D-5D09-4243-ACCC-87B38523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364-F678-42A7-BDC7-F0841B65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567-9EE3-42B9-B158-4B23DCCD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484-DA83-457B-91A7-0EFD007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3EE-3800-41AF-8F71-DBEE7001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170-032D-43F6-A657-5CB7A258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6560" indent="-28656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810D6-3F1B-44D3-B430-A1EC9319DA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phant: Easy Pers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ORMs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easy to use APIs: btree, persistent sets, and CLOS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index creation on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ind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2160" y="1311120"/>
            <a:ext cx="70502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efpclass frien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(name :accessor name :initarg :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irthday :initarg :birthda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:index 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#&lt;PERSISTENT-METACLASS FRIEN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Carlos" :birthday (encode-birthday '(1 1 1972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Adriana" :birthday (encode-birthday '(24 4 1980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Zaid" :birthday (encode-birthday '(14 8 1976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NOW SOMEONE TRIPS OVER THE POWER COR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estart your LISP and 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et-instances-by-class 'frie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(#&lt;Carlos&gt; #&lt;Adriana&gt; #&lt;Zaid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pclass #'(format t " name: ~A birthdate: ~A~%" (name friend) (birthday friend)) 'frie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Carlos birthdate: (1 1 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Adriana birthdate: (24 4 19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Zaid birthdate: (14 8 19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(#&lt;Carlos&gt; #&lt;Adriana&gt; #&lt;Zaid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404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isten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14600" y="7621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762120"/>
            <a:ext cx="1905120" cy="83808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ist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723960"/>
            <a:ext cx="1218960" cy="171432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4320"/>
              <a:gd name="textAreaBottom" fmla="*/ 1654920 h 1714320"/>
            </a:gdLst>
            <a:ahLst/>
            <a:rect l="textAreaLeft" t="textAreaTop" r="textAreaRight" b="textAreaBottom"/>
            <a:pathLst>
              <a:path w="21600" h="30375">
                <a:moveTo>
                  <a:pt x="3600" y="0"/>
                </a:moveTo>
                <a:arcTo wR="3600" hR="3600" stAng="16200000" swAng="-5400000"/>
                <a:lnTo>
                  <a:pt x="0" y="26775"/>
                </a:lnTo>
                <a:arcTo wR="3600" hR="3600" stAng="10800000" swAng="-5400000"/>
                <a:lnTo>
                  <a:pt x="18000" y="30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75248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74080" y="1698480"/>
            <a:ext cx="1203120" cy="152640"/>
          </a:xfrm>
          <a:prstGeom prst="rect">
            <a:avLst/>
          </a:prstGeom>
          <a:solidFill>
            <a:srgbClr val="0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72360" y="957240"/>
            <a:ext cx="1044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59092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2590920"/>
            <a:ext cx="358128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utils/UF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7524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52280"/>
            <a:ext cx="2644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84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6320" y="3238560"/>
            <a:ext cx="5410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tore Interface and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886200"/>
            <a:ext cx="158760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b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88620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postmo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88620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cl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1511280" cy="83808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l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51814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keley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181480"/>
            <a:ext cx="2590560" cy="83844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51814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4724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7242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51080" y="4724280"/>
            <a:ext cx="460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724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20040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952880"/>
            <a:ext cx="784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73392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762120"/>
            <a:ext cx="137160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6259680"/>
            <a:ext cx="838440" cy="152280"/>
          </a:xfrm>
          <a:prstGeom prst="rect">
            <a:avLst/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6160" y="6172200"/>
            <a:ext cx="992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608880"/>
            <a:ext cx="838440" cy="152280"/>
          </a:xfrm>
          <a:prstGeom prst="rect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85800" y="6521400"/>
            <a:ext cx="857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6259680"/>
            <a:ext cx="838080" cy="152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2040" y="6172200"/>
            <a:ext cx="1838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dy to integ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6608880"/>
            <a:ext cx="838080" cy="152280"/>
          </a:xfrm>
          <a:prstGeom prst="rect">
            <a:avLst/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0240" y="6521400"/>
            <a:ext cx="586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6248520"/>
            <a:ext cx="838440" cy="15228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58000" y="6161040"/>
            <a:ext cx="981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lti-platf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ed by LISP: SBCL, ACL, LispWorks, OpenM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Oses:  Linux, Mac,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on 64 bit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524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te binding of repository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Repositories (3 tested, but more should be possible via CL-SQ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migration between repos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 usage and migration flexible enough that engineering decisions about repos are independent of 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DB: fast, not free for a website unless open-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gres: slower, liberal license, very solid and well-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QLite3: fast, good for pr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on X, move t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ing decisions chang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optimize prematurely...index a slot when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indexes provide lots of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ma changes (changing a persistent classes slots) sh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re-lisp solution would allow prototyping (and maybe more) with even less installation has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the serializer improves performance on ever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 postgres usage with postmo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ry languages, Prevalence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Eslick</dc:creator>
  <dc:description/>
  <dc:language>en-US</dc:language>
  <cp:lastModifiedBy>Robert Read</cp:lastModifiedBy>
  <cp:revision>0</cp:revision>
  <dc:subject/>
  <dc:title>PowerPoint Presentation</dc:title>
</cp:coreProperties>
</file>