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0EF-1CE9-4E12-8A3C-4A5F487C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746-0447-48F7-A8F4-3EF7EF14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92A-9279-4248-966C-47CA1033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FA9-F0DE-4A6D-8FA9-4FD2360C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646-F9EB-4D2E-A92B-1811594C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987-61AE-4140-BBB0-8D801C69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C46-A37B-4C79-BF88-718A0248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B02-3321-4E2A-9C2C-1D15B8E8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F14-280C-4D3C-9D94-21D580B4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723-B337-4194-954D-BE89C32A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C22-E10C-4543-8815-B25E7551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1F5-DF36-4C33-860C-F47BC62E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28600"/>
            <a:ext cx="8610480" cy="6400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6560" indent="-28656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055D11-2EB7-42D1-91EC-963729B79C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mmon-lisp.net/project/elephant" TargetMode="External"/><Relationship Id="rId2" Type="http://schemas.openxmlformats.org/officeDocument/2006/relationships/hyperlink" Target="http://trac.common-lisp.net/elephan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phant: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ersistent Metaobject Protocol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Object Oriented Database for Common L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sistent object protoco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rsistent-metacla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pecializes slot ac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s persistent links between ob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s automatic indexing of class instances by slo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t instance mapping by class, slot valu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ple persistent collection A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istent sets (add, remove, f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trees (insert, delete, pred, su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le Index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't optimize prematurely...index a slot when you ne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 indexes provide lots of power; you can index objects by the values returned from arbitrary lisp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xes can be orde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numeric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xical ordering of strings, symbols and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 Platform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7600" indent="-32760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Lisp environ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BCL, ACL, LispWorks, OpenM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Platform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, Mac,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 and 64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data stor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keley DB and CL-SQL (PostgreSQL and SQL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ve PostgreSQL and Lisp data store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Data S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rkeley D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fast, not free for a website unless website is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stgres via CLSQ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lower, liberal license, very solid and well-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QLite3 via CLSQ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imple, slowest, good for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to migrate your application between them and more data stores are on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7160" indent="-31716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obust, long-term supported 1.0 release planned by end of summer ‘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tial integrity and full support for schema evolution (changing persistent class slo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support for class hierarchies when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postgres usage with postmo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 query language (and compiler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1.0 features unde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ve LISP data 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 prevalence or Object management (D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p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ommon-lisp.net/project/elep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via CVS and tar archive (not asdf-installable 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 feature requests and log bug reports to the TRAC project database at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trac.common-lisp.net/eleph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 Elephant Implementation by Andrew Blumberg and Ben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Elephant Versions ‘05-’07 by Ian Eslick and Robert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erous patches, features, examples and significant testing support from a growing user ba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4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actional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for concurren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s the full ACID compliance of underlying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phant is thread-safe; can share data store han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ular Data Sto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terface to disk storage is abstr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supports Berkeley DB (direct/fast) and CL-SQL (general/slower) for flexible speed, licens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 support for migration between databas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ration also provides compaction and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untime databas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schema re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/remove slot inde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/drop objects from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6094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6094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09480"/>
            <a:ext cx="1905120" cy="83844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571680"/>
            <a:ext cx="1218960" cy="171432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4320"/>
              <a:gd name="textAreaBottom" fmla="*/ 1654920 h 1714320"/>
            </a:gdLst>
            <a:ahLst/>
            <a:rect l="textAreaLeft" t="textAreaTop" r="textAreaRight" b="textAreaBottom"/>
            <a:pathLst>
              <a:path w="21600" h="30375">
                <a:moveTo>
                  <a:pt x="3600" y="0"/>
                </a:moveTo>
                <a:arcTo wR="3600" hR="3600" stAng="16200000" swAng="-5400000"/>
                <a:lnTo>
                  <a:pt x="0" y="26775"/>
                </a:lnTo>
                <a:arcTo wR="3600" hR="3600" stAng="10800000" swAng="-5400000"/>
                <a:lnTo>
                  <a:pt x="18000" y="30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60020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74080" y="1546200"/>
            <a:ext cx="1203120" cy="152280"/>
          </a:xfrm>
          <a:prstGeom prst="rect">
            <a:avLst/>
          </a:prstGeom>
          <a:solidFill>
            <a:srgbClr val="0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72360" y="804960"/>
            <a:ext cx="1044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43828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2438280"/>
            <a:ext cx="358128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utils/UF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-61920"/>
            <a:ext cx="2644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5720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971800"/>
            <a:ext cx="5410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 Interface and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733920"/>
            <a:ext cx="158760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b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3733920"/>
            <a:ext cx="2667240" cy="838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postmo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73392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cl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3733920"/>
            <a:ext cx="1511280" cy="838080"/>
          </a:xfrm>
          <a:prstGeom prst="roundRect">
            <a:avLst>
              <a:gd name="adj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l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502920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keley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502920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502920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572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45720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951080" y="4572000"/>
            <a:ext cx="460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45720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04812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0060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581280"/>
            <a:ext cx="784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609480"/>
            <a:ext cx="1371600" cy="8384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6107040"/>
            <a:ext cx="838440" cy="152640"/>
          </a:xfrm>
          <a:prstGeom prst="rect">
            <a:avLst/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6160" y="6019920"/>
            <a:ext cx="992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6456240"/>
            <a:ext cx="838440" cy="152640"/>
          </a:xfrm>
          <a:prstGeom prst="rect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86520" y="6369120"/>
            <a:ext cx="857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6107040"/>
            <a:ext cx="83808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2760" y="6019920"/>
            <a:ext cx="1838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dy to integ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6456240"/>
            <a:ext cx="838080" cy="152640"/>
          </a:xfrm>
          <a:prstGeom prst="rect">
            <a:avLst/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0600" y="6369120"/>
            <a:ext cx="586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6095880"/>
            <a:ext cx="838440" cy="15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58720" y="6008760"/>
            <a:ext cx="981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22160" y="1311120"/>
            <a:ext cx="70502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efpclass friend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(name :accessor name :initarg :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birthday :initarg :birthday :index t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#&lt;PERSISTENT-METACLASS FRIEN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Carlos" :birthday (encode-birthday '(1 1 1972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Adriana" :birthday (encode-birthday '(24 4 1980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Zaid" :birthday (encode-birthday '(14 8 1976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NOW SOMEONE TRIPS OVER THE POWER COR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Restart your LISP and 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get-instances-by-class 'frie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(#&lt;Carlos&gt; #&lt;Adriana&gt; #&lt;Zaid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p-class-index #'(format t " name: ~A birthdate: ~A~%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ame friend) (birthday friend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friend ‘birth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Carlos birthdate: (1 1 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Zaid birthdate: (14 8 19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Adriana birthdate: (24 4 19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404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sisten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st Binary Object Serial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umeric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ings, symbols and path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Unicod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isten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objects and str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ys, hash-table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Eslick</dc:creator>
  <dc:description/>
  <dc:language>en-US</dc:language>
  <cp:lastModifiedBy>Ian Eslick</cp:lastModifiedBy>
  <dcterms:modified xsi:type="dcterms:W3CDTF">2007-04-23T08:31:04Z</dcterms:modified>
  <cp:revision>4</cp:revision>
  <dc:subject/>
  <dc:title>PowerPoint Presentation</dc:title>
</cp:coreProperties>
</file>